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3D8-1B27-41C9-99BE-91F910CD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4FD-D328-4693-956E-955262DE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580-AC7F-46A8-8E7C-0FD03AEB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16C-E8E0-4666-A8A5-C5985868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4FB-708A-4369-8FBE-1FDEA995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AF0-C473-4672-82B8-312F556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D28-AE24-4E98-BDFC-38BAB39B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ADD-C6A4-447E-9FB3-E1D1D6AA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EEF-4467-46A2-A293-C020A4FE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C19-C6CC-42BD-84A5-5AAFA14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BEE-88BB-4FB2-8F7B-C3C87303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7E4-CB4E-4AB9-89F8-8507DDC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11B-E09A-4590-8F04-8085D5E0BDA0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PROFIL PREDUZE</a:t>
            </a: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Ć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9966"/>
                </a:solidFill>
                <a:latin typeface="Arial"/>
              </a:rPr>
              <a:t>HOTEL IZVOR AD ARANĐEL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4343400"/>
            <a:ext cx="1244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5. STRUKTURA ZAPOSLE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2720" y="1479600"/>
            <a:ext cx="24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KVALIFIKACIONA STRUK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2000" y="381636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STAROSNA STRUK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38480" y="1746360"/>
          <a:ext cx="5838840" cy="213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8480" y="1746360"/>
                    <a:ext cx="58388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238480" y="4114800"/>
          <a:ext cx="5838840" cy="1981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38480" y="4114800"/>
                    <a:ext cx="5838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6. FINANSIJSKI POKAZATEL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10400" y="1600200"/>
            <a:ext cx="142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BILANS USPE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124000" y="1989000"/>
          <a:ext cx="471636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989000"/>
                    <a:ext cx="471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ppTime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1447920"/>
            <a:ext cx="66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BILANS STANJA NA DAN 31.03.2002. </a:t>
            </a:r>
            <a:r>
              <a:rPr b="1" lang="hr-HR" sz="1000" spc="-1" strike="noStrike">
                <a:solidFill>
                  <a:srgbClr val="cc3300"/>
                </a:solidFill>
                <a:latin typeface="Arial"/>
              </a:rPr>
              <a:t> KORIGOVANA KNJIGOVODSTVENA VRED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835280" y="1773360"/>
          <a:ext cx="6848280" cy="4335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773360"/>
                    <a:ext cx="684828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0400" y="106668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rial"/>
              </a:rPr>
              <a:t>BILANS STA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24000" y="1413000"/>
          <a:ext cx="5670720" cy="46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413000"/>
                    <a:ext cx="5670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533520"/>
            <a:ext cx="66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3300"/>
                </a:solidFill>
                <a:latin typeface="AppTimes"/>
              </a:rPr>
              <a:t>NETO  OBRTNI  F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7280" y="12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9800" y="903240"/>
          <a:ext cx="5834160" cy="516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9800" y="903240"/>
                    <a:ext cx="583416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SADRŽA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040" y="2438280"/>
            <a:ext cx="6248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Uvo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Osnovne informa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Podaci o imovini preduzeć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Usluge i pozicija na tržišt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Struktura zaposle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Finansijski pokazatel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1. Uv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Agencija za Privatizaciju Republike Srbije je donela odluku o privatizovanju HOTEL IZVOR A.D. ARANDJELO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BECONEX je angažovan kao konsultantska kuća na projektu privatizaci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Procena vred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Program privatiz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Pripremnjen je PROFIL PREDUZEĆ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2908440"/>
            <a:ext cx="320040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2. OSNOVN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050920" y="2060640"/>
          <a:ext cx="5837400" cy="311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060640"/>
                    <a:ext cx="583740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3. PODACI O IMOV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64280" y="19051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c3300"/>
                </a:solidFill>
                <a:latin typeface="Arial"/>
              </a:rPr>
              <a:t>ZEMLJIŠ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625920"/>
            <a:ext cx="20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c3300"/>
                </a:solidFill>
                <a:latin typeface="Arial"/>
              </a:rPr>
              <a:t>NAJVAŽNIJI OBJEK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69920" y="2203560"/>
          <a:ext cx="6201000" cy="97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920" y="2203560"/>
                    <a:ext cx="6201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016000" y="4067280"/>
          <a:ext cx="6131160" cy="961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16000" y="4067280"/>
                    <a:ext cx="613116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6400" y="214164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c3300"/>
                </a:solidFill>
                <a:latin typeface="Arial"/>
              </a:rPr>
              <a:t>NAJVAŽNIJA OPR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16000" y="2590920"/>
          <a:ext cx="5838840" cy="2754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0" y="2590920"/>
                    <a:ext cx="583884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STRUKTUR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85840" y="1898640"/>
          <a:ext cx="5838840" cy="73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5840" y="1898640"/>
                    <a:ext cx="58388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85840" y="2965320"/>
          <a:ext cx="5838840" cy="92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5840" y="2965320"/>
                    <a:ext cx="58388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085840" y="4184640"/>
          <a:ext cx="5838840" cy="892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85840" y="4184640"/>
                    <a:ext cx="5838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085840" y="5334120"/>
          <a:ext cx="5838840" cy="738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85840" y="5334120"/>
                    <a:ext cx="5838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4. USLUGE I POZICIJE NA TRŽIŠTU</a:t>
            </a:r>
            <a:r>
              <a:rPr b="1" lang="hr-HR" sz="2800" spc="-1" strike="noStrike">
                <a:solidFill>
                  <a:srgbClr val="cc3300"/>
                </a:solidFill>
                <a:latin typeface="AppGaramondCy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6920" y="2362320"/>
            <a:ext cx="4771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REALIZACIJA U 200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6.950 noćenj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.825 polupansion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7.769  noćenja sa doručko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3300"/>
                </a:solidFill>
                <a:latin typeface="Arial"/>
              </a:rPr>
              <a:t>KORIŠĆENJE KAPACITETA</a:t>
            </a: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999. povećano za 34% u odnosu na prethodnu godin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000. povećano 43%,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001. 50% u odnosu na 2000-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26636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ppTimes"/>
              </a:rPr>
              <a:t>...</a:t>
            </a:r>
            <a:r>
              <a:rPr b="1" lang="hr-HR" sz="2800" spc="-1" strike="noStrike">
                <a:solidFill>
                  <a:srgbClr val="cc3300"/>
                </a:solidFill>
                <a:latin typeface="AppGaramondCy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3300"/>
                </a:solidFill>
                <a:latin typeface="Arial"/>
              </a:rPr>
              <a:t>NABAVK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MLEKARA MLADOST KRAGUJEV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STR FILE CRVEN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STRP GOLD ARANĐELOV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TEHNOOPREMA A.D. BEOG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MAJDANAC D.O.O ARANĐELOV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3300"/>
                </a:solidFill>
                <a:latin typeface="Arial"/>
              </a:rPr>
              <a:t>PRODAJ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Turstička agencija MARATON Ki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TRANSFER Novi S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OTA Bačka Palan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KONTE Beog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96969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69696"/>
                </a:solidFill>
                <a:latin typeface="Arial"/>
              </a:rPr>
              <a:t>UNISTURS Banjalu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3200400"/>
            <a:ext cx="32004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6:33:23Z</dcterms:created>
  <dc:creator>G4</dc:creator>
  <dc:description/>
  <dc:language>en-US</dc:language>
  <cp:lastModifiedBy>Miodrag Tatarević</cp:lastModifiedBy>
  <dcterms:modified xsi:type="dcterms:W3CDTF">2002-10-17T06:26:44Z</dcterms:modified>
  <cp:revision>123</cp:revision>
  <dc:subject/>
  <dc:title>PROFIL PREDUZE∆A</dc:title>
</cp:coreProperties>
</file>